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94D-4172-47A4-9B23-FCBC7344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C8B-978A-4790-948B-357B5A58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00B-0554-439C-98DE-6D069515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4F7-B79B-4B0B-A522-C04DE6AB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1A43-505D-4DD3-8B92-A4BDEEBE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74E-B615-47D5-A3CC-58EF1D2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8A6A-862E-4838-892B-1EEECBA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1F3-AE90-4B84-8D4F-956F14BF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825-7162-42CA-87B5-9A49E073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E1B-E261-4CBD-BF38-D0DF7FDF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A05-D0C1-457A-86A6-E7B0DA9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D27-F6D5-4923-86C5-2ED9935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D4A-5254-4AA6-BFDE-50EF773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BB56-1B37-404E-AD6E-7616AC0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B3D-AE8C-448B-AB03-8CEB12A1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20CE-419D-4E0D-842D-D66EED6E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E57-D6F4-4693-B1C9-3090E17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F6E-B2D6-45F2-889A-C95D687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D2F-7CEF-4518-8A67-4AFF09B1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BAF-9BBF-4845-A3FB-F232BAC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0CB-4953-4E5C-89F7-D370FB96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0F1-CA27-476A-8C7C-0B949B7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612-BBBF-41E6-9E80-EEB06DF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F55-229A-4AC1-84D7-2045D49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CC62-3EC4-4E19-BC9B-1293154D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D86-5FEF-4E2C-BB88-8BCDD9FB0CF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the English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CHOSE to leave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pers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n't fit in the 3rd coven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a place to go whe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find governm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the English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World to become a Purit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er to go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ty on a hi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2840" indent="-30528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acon light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2720" indent="-338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 was to purify America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return to England to sav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grims (travel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st” Puritans who didn’t wish to save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 for Holland for a time however, the Catholic influence strengthened in Holland  (present day Netherl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ed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20 New Ply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grims left fo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flower  ship with 101 people (Bradf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ing for Jamestown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 algn="just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course or chose own location ended in Cape Cod near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1/2 months  - arriving in November (c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ans greeted them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d them through wi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quanto or English fishermen 1580-90'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20 New Ply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flower Compact 1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for democratic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single civil body politi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ity rule - volun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set up some form of government at late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st representative government in New World - social contrac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representative government a new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12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of Burgess - 16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st 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ure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epresentative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29 Massachusetts Bay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hn Winthrop - Puritan received ch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ock holders - investors in colo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chasers of charters (or stock holder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ers stayed in England so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ods come back on ship,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ock holders taxed goo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er came over with Massachuset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y Co. 1930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29 Massachusetts Bay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 ships 1000 people settle where Boston             is is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pared - no hardsh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ast to Jamestown &amp; Pilgri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eat Migra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f 1630 - 1640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,000 Puritans to Massachuset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hn Winthrop/Cotton Mather legis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pt control of the church/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s a one generation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rity alters id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hing, shipping, fur tr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ful to God for their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 of concept of God rewar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deeds wit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s al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lth becam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world environment (land &amp;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gacy of Purit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sed values to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udence - clear thin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aking emotiona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nny saved is a penny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Franklin's "waste not - want no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ipline - self discip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ion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rd work is rewar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e hands are the devil's worksh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gacy of Purit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ed values to future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rotestant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Prudenc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STANT WORK ETHIC  -----&gt;  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deas go hand i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e we losing the Legacy of the Purit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we are losing values of hard work, thrift &amp; discip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ism/cred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you are what you ow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took control of Engl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0's Crom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beheaded King - revol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a few Puritans ever returned from the colonies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n American culture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s our country really founded on freedom of reli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 goal of the Puritans religious freedom for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intent of the English in resettling the religious disson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religious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e Hutchin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sted because of prayer meetings in her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ger Willia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Rhode Island - didn't agree with M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 Co. Puritans &amp; lef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 - Pulling 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n America introduced concept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urch &amp; State (Theoc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&amp;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rity &amp; God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Puritans get thei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re some called separa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were the pilgri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Citty on a h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concepts of Purit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3 way covena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ir legacy to American 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17 Protestant Re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stors who wished to reform the Catholic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tin Luther’s 95 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32 Henry VIII,  King of England creat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glican Church (Church of Eng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stantism - in name on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ng same as Pope with appointed cardi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glican Church was Catholicism practice &amp; ri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holic church in disguis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glishmen protest against the Anglican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“purify” 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st Henry’s mild English the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le, prejudice against thos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Anglican chu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no offices can be 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sthood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liefs of the Purit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 Way Co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st cove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dividual &amp; G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iritual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sure of your predest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nd cove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dividual &amp; con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so wicked he needs help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mmunal spirituality)  stocks &amp; pi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s to abide by rul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no dan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iefs of the Puri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Way Cov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st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individual &amp; G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nd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individual &amp; con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rd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ongregation  &amp;  sta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ild theoc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make reform through civi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enforce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2:56:17Z</dcterms:created>
  <dc:creator>Trial User</dc:creator>
  <dc:description/>
  <dc:language>en-US</dc:language>
  <cp:lastModifiedBy>Teacher</cp:lastModifiedBy>
  <dcterms:modified xsi:type="dcterms:W3CDTF">2009-09-21T00:24:20Z</dcterms:modified>
  <cp:revision>115</cp:revision>
  <dc:subject/>
  <dc:title>PURITANISM</dc:title>
</cp:coreProperties>
</file>